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4FD3-74CD-4170-9724-43C4C336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2C50-9595-4554-ABD0-23DD369B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E756-F118-4F93-B8BB-2CB335ED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8575-4413-473F-B24F-6394B9DC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6B9F-1F15-4C54-8B8B-DBBED80A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3244-44C0-45A7-90B1-00DFA331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BFE7-780E-4C26-8015-B746BA6A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48DD-802E-426E-AA49-DFE37548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1623-B1B3-496B-9255-6FC9E2AC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D46D-5158-4D04-9A72-AF7613DA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DB0C-8BDB-485C-8E71-9062B476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4479-7253-4A25-9D60-D92AFECD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2710-ECF3-4E56-9A18-920E24061BE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2130120"/>
            <a:ext cx="824400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Garamond"/>
              </a:rPr>
              <a:t>Хамилтонова скала за процену депресивности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Garamond"/>
              </a:rPr>
              <a:t>Hamilton</a:t>
            </a:r>
            <a:r>
              <a:rPr b="1" lang="sr-Latn-CS" sz="4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Garamond"/>
              </a:rPr>
              <a:t>Depression</a:t>
            </a:r>
            <a:r>
              <a:rPr b="1" lang="sr-Latn-CS" sz="4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Garamond"/>
              </a:rPr>
              <a:t>Rating</a:t>
            </a:r>
            <a:r>
              <a:rPr b="1" lang="sr-Latn-CS" sz="4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Garamond"/>
              </a:rPr>
              <a:t>Scale</a:t>
            </a:r>
            <a:r>
              <a:rPr b="1" lang="sr-Latn-CS" sz="40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GB" sz="4000" spc="-1" strike="noStrike">
                <a:solidFill>
                  <a:srgbClr val="000000"/>
                </a:solidFill>
                <a:latin typeface="Garamond"/>
              </a:rPr>
              <a:t>HAM</a:t>
            </a:r>
            <a:r>
              <a:rPr b="1" lang="sr-Latn-CS" sz="40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en-GB" sz="4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1" lang="sr-Latn-CS" sz="4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6" descr=""/>
          <p:cNvPicPr/>
          <p:nvPr/>
        </p:nvPicPr>
        <p:blipFill>
          <a:blip r:embed="rId1"/>
          <a:stretch/>
        </p:blipFill>
        <p:spPr>
          <a:xfrm>
            <a:off x="2428920" y="357120"/>
            <a:ext cx="1396800" cy="1682640"/>
          </a:xfrm>
          <a:prstGeom prst="rect">
            <a:avLst/>
          </a:prstGeom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</p:pic>
      <p:pic>
        <p:nvPicPr>
          <p:cNvPr id="43" name="Picture 174" descr=""/>
          <p:cNvPicPr/>
          <p:nvPr/>
        </p:nvPicPr>
        <p:blipFill>
          <a:blip r:embed="rId2"/>
          <a:stretch/>
        </p:blipFill>
        <p:spPr>
          <a:xfrm>
            <a:off x="285840" y="428760"/>
            <a:ext cx="1595520" cy="990360"/>
          </a:xfrm>
          <a:prstGeom prst="rect">
            <a:avLst/>
          </a:prstGeom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9. Агитација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“занима” се рукама, крши руке, ломи нокте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0.   Нема података о агитацији, нити је запаж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Мало врпољења током интервуја, лупкање прстима,  играње ставр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Очигледан немир, помера се у столици, пипка се по рукама и одећи, кршење ру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Пацијент мора да устаје током интервју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Пацијент хода горе- доле, чупа косу и одећу, помера ствари ит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0. Психичка анксиозност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напетост, иритабилност, забринутост. Уплашено ишчекивање и страхов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0.   Нема жалб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Присутна само у одговору на директно питање; јавља се као благо и ретко осећање тешкоће, забринутости, нервозе, напетости; тенденција да се провише брине и око ситница и/или умерена анксиозност у специфичним ситуација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Осећа нервозу, тензију, несигурност; дуготрајна узнемиреност и/или напади акутне анксиозности у специфичним ситуација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Осећање “узнемирености”, “уплашености”, највећи део времена и/или чести напади акутне анскиоз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Изражена- осећање континуираног страха због очекивања губитка, напуштања, онеспособљености, до искључења других менталних садржаја, стање пани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1. Соматска анксиозност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физиолошки корелати, као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гастроинтестинални, кардиоваскуларни,            респираторни, уринарни, знојењ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0.   Не жали с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лага и ретка, не утиче на дневне актив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мерена и чешћи атаци соматске анксиоз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Мање или више континуирано осећање болести, са симптомима који ометају спавање и дневну рути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Онеспособљавајући симпто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2.  Соматски гастроинтестинални симптоми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губитак апети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0.    Уопште се не жал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Смањен апетит. Балго промењена фреквенца дефекациј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Губитак апетита. Изражена опстипациј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3. Општи соматски симптоми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осећај тежине, болови, губитак енергије, лака заморљив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0.   Нема симптом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Благе до умерене жалбе, нису онеспособљавајуће, али ометајућ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Изражене тегобе, утичу на активност, чак и онеспособљавају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4. Генитални симптоми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губитак либида, поремећај менструалног циклу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0.   Не жали се или неадекватне информациј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Јасно смањење интересовања, реаговања и учесталости сексуалне актив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Комплетан губитак иницијативе и реаговања или актуелно нерасположење за то. Аменореа, у одсуству “ендокриних” узрок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5. Хипохондрија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преокупација здрављем, захтеви за помоћ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хипохондричне суманутости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14200" y="1571400"/>
            <a:ext cx="8715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0.   Нема жалби или само кад се питање директно односи на телесно здрављ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понтане мале жалбе, превелика забринутост за телесно здрављ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Значајна преокупација за телесно здравље (хипохондријски став); телесни симптоми су главна жалба и тема, мисли о органском обољењ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Концентрисан на телесне симптоме, континуирано се жали и тражи помоћ, “канцерофобија”, “сифилидофобија”, итд. Убеђен да је органски болеста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уманутости, обично са бизарним жалбама и израженом анксиозношћу, страхом од безнађа, са очекивањем претеће смрти или озбиљног онеспособљавањ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6. Губитак телесне масе: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а) пер анамнесис                      б) мерење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0.    Не жали се на губитак у тежин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Мали или несигурни губитак у тежин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Очигледан, изражен, објективно утврђен губитак у тежин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7. Способност увиђања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прихвата да је депресиван и болестан, пориче да је депресива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0.    Признаје да је депресиван и “ментално” болестан (слом живаца итд.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Признаје да је нервозан због свог стања, али мисли да је то због телесног стањ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Пориче да је било шта лоше с његовим психичким функционисањем. Сматра себе само телесно болесни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8. Дневне варијације расположења 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симптоми најизраженији ујутру и увеч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0.  Нема утврђеног правила флуктуације током дан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Неке индикације о дневним варијацијам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Јасно лошије ујутру, увече или поподне, него у неко друго доба дан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Garamond"/>
              </a:rPr>
              <a:t>Настанак и апликативност ска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Конструисана </a:t>
            </a:r>
            <a:r>
              <a:rPr b="1" lang="ru-RU" sz="3000" spc="-1" strike="noStrike">
                <a:solidFill>
                  <a:srgbClr val="c00000"/>
                </a:solidFill>
                <a:latin typeface="Garamond"/>
              </a:rPr>
              <a:t>1960. године </a:t>
            </a: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(Хамилтон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Потреба за </a:t>
            </a:r>
            <a:r>
              <a:rPr b="1" lang="ru-RU" sz="3000" spc="-1" strike="noStrike">
                <a:solidFill>
                  <a:srgbClr val="c00000"/>
                </a:solidFill>
                <a:latin typeface="Garamond"/>
              </a:rPr>
              <a:t>стандардизовањем</a:t>
            </a: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 феноменологије депресивног синдрома и процене </a:t>
            </a:r>
            <a:r>
              <a:rPr b="1" lang="ru-RU" sz="3000" spc="-1" strike="noStrike">
                <a:solidFill>
                  <a:srgbClr val="c00000"/>
                </a:solidFill>
                <a:latin typeface="Garamond"/>
              </a:rPr>
              <a:t>степена изражености </a:t>
            </a: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депресивног поремећа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Незаобилазни инструмент у</a:t>
            </a:r>
            <a:r>
              <a:rPr b="0" lang="en-GB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клиничким, фармаколошким испитивањима, као и у рутинском рад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9. Деперсонализација и дереализација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осећење нестварности, нихилистичке идеје.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0.   Нема деперсонализације и дереализациј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Нејасно осећање сопствене промен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Јасно и стално осећање нереал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20. Параноидност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сумњичавост, идеје односа, суманутости прогањ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13840" y="1785960"/>
            <a:ext cx="89298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0.    Нема знакова абнормалне сумњичав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амосвесност; недостатак поверења у друге, неодређене идеје утицаја, тенденција за оптуживањем других људи, да му се смеју, радње прозив њега у обичним ситницама итд. Реагује на разумевањ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Параноидни став, идеје односа и/или прогањања, неодређене и несистематизоване суманутости или мисли да му други желе з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Активне и афективно испуњене параноидне суманутости, донекле систематизовано сумануто расположење. Убеђен да му други желе з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Флоридан, активно елабориран, параноидно- суманут систем, интензивно сумануто расположење, халуцина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00000"/>
                </a:solidFill>
                <a:latin typeface="Garamond"/>
              </a:rPr>
              <a:t>21. Опсесивно </a:t>
            </a:r>
            <a:br>
              <a:rPr sz="4000"/>
            </a:br>
            <a:r>
              <a:rPr b="1" lang="sr-CS" sz="4000" spc="-1" strike="noStrike">
                <a:solidFill>
                  <a:srgbClr val="c00000"/>
                </a:solidFill>
                <a:latin typeface="Garamond"/>
              </a:rPr>
              <a:t>- компулсивни симптом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0.    Нема опсесивних ни компулсивних симптом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Несигурни или ретки, нема значајне анксиоз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Јасно присутни и изазивају анксиозност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Скоров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Верзија са </a:t>
            </a:r>
            <a:r>
              <a:rPr b="1" lang="ru-RU" sz="3000" spc="-1" strike="noStrike">
                <a:solidFill>
                  <a:srgbClr val="c00000"/>
                </a:solidFill>
                <a:latin typeface="Garamond"/>
              </a:rPr>
              <a:t>21. ајтемом</a:t>
            </a: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Garamond"/>
              </a:rPr>
              <a:t>&gt;24 </a:t>
            </a: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- изражена депресивност, хоспитализовани болесниц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Garamond"/>
              </a:rPr>
              <a:t>17- 24 </a:t>
            </a: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- умерена депресивност, болесници лечени у ванболничким услови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Garamond"/>
              </a:rPr>
              <a:t>&lt;8</a:t>
            </a:r>
            <a:r>
              <a:rPr b="0" lang="ru-RU" sz="3000" spc="-1" strike="noStrike">
                <a:solidFill>
                  <a:srgbClr val="000000"/>
                </a:solidFill>
                <a:latin typeface="Garamond"/>
              </a:rPr>
              <a:t> - депресивност није </a:t>
            </a:r>
            <a:r>
              <a:rPr b="0" lang="sr-RS" sz="3000" spc="-1" strike="noStrike">
                <a:solidFill>
                  <a:srgbClr val="000000"/>
                </a:solidFill>
                <a:latin typeface="Garamond"/>
              </a:rPr>
              <a:t>опсервира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1. Депримираност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туга, безнађе, беспомоћност, безвредн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aramond"/>
              </a:rPr>
              <a:t>0.   Нема непријатних осећања, нити знакова депрес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3760" indent="-383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aramond"/>
              </a:rPr>
              <a:t>Пролазно осећање туге/бриге. Нема видљивих знакова депресије. Жали се на недостатак енерг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3760" indent="-383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aramond"/>
              </a:rPr>
              <a:t>Изгледа депресивно, осећа се мизерно, беспомоћно. Изражава песимизам и друге депресивне садржаје/повремене идеје о самоубиству, лоше функционис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3760" indent="-383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aramond"/>
              </a:rPr>
              <a:t>Физички знаци депресије обично са нешто ретардације или агитације, доминирају осећање безнађа, депресивни садржаји, суицидалне иде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3760" indent="-383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aramond"/>
              </a:rPr>
              <a:t>Первазивна изражена депресија са значајним физичким знацима депресије; депресивне суманутости, преокупираност смрћу, смоубиством. Ступор или агитација; аутодеструктивно понашањ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2. Осећање кривиц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- самоотпуживање, идеје кривице и/или казне, суманутости кривице, оптужујући и показујући гласови (халуцинације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4200" y="2071440"/>
            <a:ext cx="8715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0.   Не прекорева себе ни за ш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Мање жаљење због ранијег понашања; не елаборира; тенденција да себе криви за тривијалне ствари; осећање самопрекоревањ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Осећања кривице, смооваловажавање или самопрекоревање, размишљања о грешкама или грешним поступц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Верује да је болест казна. Суманутост кривице, грех, злочина и/или казне, доминирају мисаоним садржајем и понашањ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Чује оптужујуће или осуђујуће гласове и/или доживљава застрашујуће визуелне халуцинације.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3. Суицид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доживљај безвредности живота, суицидалне идеје или покушаји</a:t>
            </a: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4200" y="2143080"/>
            <a:ext cx="8715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0.   Ужива у животу, прихвата ствари онаквим какве јесу, нема  идеја о самоповређивањ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Уморан од живота, осећа да није вредно живети. Само пролазне сиуцидалне мис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Нејасна суицидалне идеје и жеља да је мртав. Сматра суицид могућом солуцијом. Осећа да би било много боље да је мрта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Честе суицидалне мисли. Има суицидалне планове, било је неодлучних покушај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Јасни планови, активне припреме и/или озбиљни покушај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00000"/>
                </a:solidFill>
                <a:latin typeface="Garamond"/>
              </a:rPr>
              <a:t>4 - 6. Неса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c00000"/>
                </a:solidFill>
                <a:latin typeface="Garamond"/>
              </a:rPr>
              <a:t>4.  Рана инсомин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r-CS" sz="2700" spc="-1" strike="noStrike">
                <a:solidFill>
                  <a:srgbClr val="000000"/>
                </a:solidFill>
                <a:latin typeface="Garamond"/>
              </a:rPr>
              <a:t>- тешкоће уснивањ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c00000"/>
                </a:solidFill>
                <a:latin typeface="Garamond"/>
              </a:rPr>
              <a:t>5.   Инсомнија током ноћ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r-CS" sz="2700" spc="-1" strike="noStrike">
                <a:solidFill>
                  <a:srgbClr val="000000"/>
                </a:solidFill>
                <a:latin typeface="Garamond"/>
              </a:rPr>
              <a:t>- исцрпљујуће спавање, поремећен сан, буђење током ноћ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c00000"/>
                </a:solidFill>
                <a:latin typeface="Garamond"/>
              </a:rPr>
              <a:t>6. Касна инсомниј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r-CS" sz="2700" spc="-1" strike="noStrike">
                <a:solidFill>
                  <a:srgbClr val="000000"/>
                </a:solidFill>
                <a:latin typeface="Garamond"/>
              </a:rPr>
              <a:t>- рано буђењ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Garamond"/>
              </a:rPr>
              <a:t>0.    Нема проблема са спавањ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Garamond"/>
              </a:rPr>
              <a:t>Благи и ретки проблеми са спавањ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Garamond"/>
              </a:rPr>
              <a:t>Чести и узнемирујући проблеми са спавањ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7. Рад и активнос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осећање неспособности, замора или слабост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Губитак интересовања, редукција активност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4200" y="1857240"/>
            <a:ext cx="8715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0.   Држи се нормално. Нема губитка инетересовања, нема редукције актив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Хладан, резервисан, неспонтан, алко се досађује. Брига о себи и радне активности једва захваћени. Мисли и осећање неспособности односе се на активнос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Осећа дневне задатке као терет. Ради само оно што је неопходно. Занемарује се. Равнодушан, тешко доноси одлуке. Мора да се нате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ве је напор, многи задаци остају неурађени. Мало активности у слободно време. Брига о себи му је маргинална. У болници не проводи ни три сата у активностима (рад у болници или хобији, посебни послови на овдељењу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8. Ретардациј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- успореност мишљења или говора, поремећај концентрације, снижена моторна активност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13840" y="2071440"/>
            <a:ext cx="86439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0.  Не даје поадтке о проблемима концентрације или извођења радњ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мањена психомоторна кативност, укоченост израза лица. Признаје повремена успорења, инактивност и недостатак свести о околи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Монотон глас, спор у одговарању на питања, седи скоро без покрета. Одговори и даље адекват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Интервју екстремно продужен. Дуге паузе, изостајање одговора, неадекватни одговор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Интервју је немогу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23:13:11Z</dcterms:created>
  <dc:creator>milica borovcanin</dc:creator>
  <dc:description/>
  <dc:language>en-US</dc:language>
  <cp:lastModifiedBy>Korisnik</cp:lastModifiedBy>
  <dcterms:modified xsi:type="dcterms:W3CDTF">2019-10-06T05:14:36Z</dcterms:modified>
  <cp:revision>8</cp:revision>
  <dc:subject/>
  <dc:title>Hamiltonova skala za procenu depresivnosti - Hamilton Depression Rating Scale (HAM-D)</dc:title>
</cp:coreProperties>
</file>